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3742E-AA96-447F-B74D-69F49CCC1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8BD61-0038-43FA-AA47-644F0B08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C3926-813E-427E-A0FC-B7BC94C43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7CFB5-6088-4CB9-8164-47A832E9D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6F3FE-EC23-4F67-87F7-4E75D99B0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DF79E-C178-4C8D-96E3-068716BF5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311D5-0D25-4335-8D41-00B16930A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EFC87-C237-45B0-BDDC-08B5C2B97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320B8-7697-43ED-AA64-3CF2372F0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74678-A125-4642-93FA-B2FDEC2B4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0E4CB-AF50-48FC-B2D9-B8FDF6330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1D2FB-F2A9-44DE-94D8-4E208467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9E4B0-9E00-451F-8407-3263EBC06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E8E26-AC1B-42DE-A346-ACBC1C834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A2D3F-9C83-4911-8C40-1015B1592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F9B35-73E1-4856-9A49-F71558C6D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CC478-9C64-4E65-851A-F6D48B0D8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85E03-D516-46B3-B549-D867B76C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9F342-4AC0-4292-AD80-D154E0D11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1A251-08E6-4026-86F9-DA83B0C5C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3C16B-3636-4BA2-8CA8-877FB143D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7973F-9F52-4C50-BF4B-D2EB4942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327C1-DFA2-4BCC-8419-9A367797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B905-4C47-4FE7-B6A6-ACAA437D1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lick to edit the outline text format</a:t>
            </a:r>
            <a:endParaRPr b="0" lang="en-US" sz="3000" spc="-1" strike="noStrike">
              <a:solidFill>
                <a:srgbClr val="000000"/>
              </a:solidFill>
              <a:latin typeface="Comic Sans MS"/>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econd Outline Level</a:t>
            </a:r>
            <a:endParaRPr b="0" lang="en-US" sz="3000" spc="-1" strike="noStrike">
              <a:solidFill>
                <a:srgbClr val="000000"/>
              </a:solidFill>
              <a:latin typeface="Comic Sans MS"/>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ird Outline Level</a:t>
            </a:r>
            <a:endParaRPr b="0" lang="en-US" sz="3000" spc="-1" strike="noStrike">
              <a:solidFill>
                <a:srgbClr val="000000"/>
              </a:solidFill>
              <a:latin typeface="Comic Sans MS"/>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Fourth Outline Level</a:t>
            </a:r>
            <a:endParaRPr b="0" lang="en-US" sz="3000" spc="-1" strike="noStrike">
              <a:solidFill>
                <a:srgbClr val="000000"/>
              </a:solidFill>
              <a:latin typeface="Comic Sans MS"/>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Fifth Outline Level</a:t>
            </a:r>
            <a:endParaRPr b="0" lang="en-US" sz="3000" spc="-1" strike="noStrike">
              <a:solidFill>
                <a:srgbClr val="000000"/>
              </a:solidFill>
              <a:latin typeface="Comic Sans MS"/>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ixth Outline Level</a:t>
            </a:r>
            <a:endParaRPr b="0" lang="en-US" sz="3000" spc="-1" strike="noStrike">
              <a:solidFill>
                <a:srgbClr val="000000"/>
              </a:solidFill>
              <a:latin typeface="Comic Sans MS"/>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eventh Outline Level</a:t>
            </a:r>
            <a:endParaRPr b="0" lang="en-US" sz="3000" spc="-1" strike="noStrike">
              <a:solidFill>
                <a:srgbClr val="000000"/>
              </a:solidFill>
              <a:latin typeface="Comic Sans MS"/>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Science Fair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731A-106F-469A-940F-CF77AF0AB07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2309-7349-4309-9684-F970F463048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lick to edit the outline text format</a:t>
            </a:r>
            <a:endParaRPr b="0" lang="en-US" sz="30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o shoots free throws better with and without music playing</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By: Bryan Anschutz</a:t>
            </a:r>
            <a:endParaRPr b="0" lang="en-US" sz="3000" spc="-1" strike="noStrike">
              <a:solidFill>
                <a:srgbClr val="000000"/>
              </a:solidFill>
              <a:latin typeface="Comic Sans MS"/>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roughout this experiment I learned that the guys and girls are really good at free throws.</a:t>
            </a:r>
            <a:endParaRPr b="0" lang="en-US" sz="30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jor Observations </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at some went and stepped over the line when they shot there free throws.</a:t>
            </a:r>
            <a:endParaRPr b="0" lang="en-US" sz="30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ossible causes of error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ome of them stepped over the line when they shot there free throws.</a:t>
            </a:r>
            <a:endParaRPr b="0" lang="en-US" sz="30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urther Research </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found out that when shooting free throws with music it is supposed to help relax the shooter when they are shooting. With out the music it says that it puts more pressure on the shooter.</a:t>
            </a:r>
            <a:endParaRPr b="0" lang="en-US" sz="30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me Spent </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spent all of my science fair work days working diligently. I also worked during my homeroom time to test and get all my stuff uploaded.</a:t>
            </a:r>
            <a:endParaRPr b="0" lang="en-US" sz="30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cknowledgements </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would like to thank Mrs. Riffel for letting me do this project also Mrs. Calderwood for supervising me when I was doing my testing.</a:t>
            </a:r>
            <a:endParaRPr b="0" lang="en-US" sz="3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 </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ho shoots free throws better with music and without music.</a:t>
            </a:r>
            <a:endParaRPr b="0" lang="en-US" sz="3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tion</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m going to test boys and girls to see who can shoot free throws better with music and without music. </a:t>
            </a:r>
            <a:endParaRPr b="0" lang="en-US" sz="30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ckground Information </a:t>
            </a:r>
            <a:br>
              <a:rPr sz="4200"/>
            </a:b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came up with this idea while playing basketball over the summer playing basketball and listening to music at the same time.</a:t>
            </a:r>
            <a:endParaRPr b="0" lang="en-US" sz="3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ypotheses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think that the boys will have a better consistent free throw shooting because the boys practice a lot more than the girls do.</a:t>
            </a:r>
            <a:endParaRPr b="0" lang="en-US" sz="30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terials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will need 8 boys and 8 girls, I will also need a basketball, basketball court, pencil, paper, goal, and finally I will a gym.</a:t>
            </a:r>
            <a:endParaRPr b="0" lang="en-US" sz="30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cedu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will do my testing during homeroom and during are science fair work days. I will take the boys and girls at the same time. I will have the people shoot 3 practice free throws then they will shoot 5 real free throws.</a:t>
            </a:r>
            <a:endParaRPr b="0" lang="en-US" sz="30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ariables</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ependent- I'm testing boys and girls and which one shoots free throws with music better </a:t>
            </a:r>
            <a:endParaRPr b="0" lang="en-US" sz="3000" spc="-1" strike="noStrike">
              <a:solidFill>
                <a:srgbClr val="000000"/>
              </a:solidFill>
              <a:latin typeface="Comic Sans MS"/>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dependent – I tested boys and girls.</a:t>
            </a:r>
            <a:endParaRPr b="0" lang="en-US" sz="3000" spc="-1" strike="noStrike">
              <a:solidFill>
                <a:srgbClr val="000000"/>
              </a:solidFill>
              <a:latin typeface="Comic Sans MS"/>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ntrolled </a:t>
            </a:r>
            <a:endParaRPr b="0" lang="en-US" sz="30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Boys did better shooting free throws with music better than the girls did. But the girls did better without the music.</a:t>
            </a:r>
            <a:endParaRPr b="0" lang="en-US" sz="30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5:02:43Z</dcterms:created>
  <dc:creator>USD376</dc:creator>
  <dc:description/>
  <dc:language>en-US</dc:language>
  <cp:lastModifiedBy>USD376</cp:lastModifiedBy>
  <dcterms:modified xsi:type="dcterms:W3CDTF">2012-03-06T14:46:22Z</dcterms:modified>
  <cp:revision>4</cp:revision>
  <dc:subject/>
  <dc:title>Who shoots free throws better with and without music playing</dc:title>
</cp:coreProperties>
</file>